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3C6-76EE-421E-B97E-DB38548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1E0-F76A-46D1-9C57-85B412F1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AD0-4F01-4BFD-A322-C2039303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2CC-83FE-46AD-9037-C010B4AE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3F33-D7F7-4039-9780-F5CF9263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F4F-549A-4D97-965C-530A52FB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E9C7-6003-405D-ACEC-F67184DF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187-F255-45DD-ABDF-87CED6D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FA4D-EED0-4300-9CAF-C64BD69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32F-29B5-420D-ACE1-9781D5C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CC3A-65D3-4C6B-BC0A-A1E451C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45C-A597-45E4-968B-D8D2331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8BD0-5590-4305-954F-5A2FDC9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A5A8-DC9B-4F26-A9CA-5175353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7553-021A-4CF9-9744-27B27FE5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ABF3-3969-4F82-8E61-B082E6F9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DA30-29CC-4CF1-886D-24529C42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0BC-A4B5-4F4B-829D-1CA949D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B19-00F2-4C23-9CB7-BC295CBC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B97-1924-460E-A240-090CE96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B20-AC36-409A-968E-F2B94CC9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40A-3870-4E8B-8547-1AAB631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DAC-A42D-44C9-B990-FE239CA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1A0-3F54-4719-B816-1C8192FC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2B43-2675-4707-A9F6-5F8B97CEFD3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9C7-D697-48FA-8BE3-C95DA302D4A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85800" y="6094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ует ли спор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ынешнему поколен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6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И снова старый добрый приятель –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хокке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Равно как и фигурное катание, данный спорт постоянно находится в десятке самых из самых. Одним словом, он всегда в мод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ccecff"/>
                </a:solidFill>
                <a:latin typeface="Arial"/>
              </a:rPr>
              <a:t>5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йнтболл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Уж если кто из родителей захочет найти общий язык с детьми, так лучше всего это сделать на пейнтболле. Чрезвычайно популярный вид спорта, как среди взрослого поколения, так и среди подростко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ccecff"/>
                </a:solidFill>
                <a:latin typeface="Arial"/>
              </a:rPr>
              <a:t>4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Художественная гимнастика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Один из самых прекрасных и сексуальных видов спорта не потерял свою актуальность и в наши д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В общем-то, успехи, победы и красивая пластика тела заставляют девчонок идти в этот вид. Правда, назвать его модно-молодежным можно лишь с натяжкой, потому, что в него приходят девчонки от 5 ле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ноубордисты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это хорошо. И зря сноуборд всегда позиционируют как развлечение для богатеньких. Да, доска конечно, не из дешевых спорттоваров будет, но и обмундирование по такому летнему виду спорта, как большой теннис, довольно дорого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ай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Не путать, байкеры – большие волосатые мужчины на мотоциклах, а байк – это экстремальный велоспорт. Наиболее моден и популярен больше в Южных регионах России, таких как Краснодарский край, но учитывая, что в последнее время крытых дворцов по экстремальным видам спорта было построено не меньше ледовых дворцов, за последние три года интерес и количество задействованных в нем лиц резко возросл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у и первое, топовое место занимает среди подростков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ей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Как и во многих других странах, в частности США, этот спорт наиболее популярен и у нас. Правда королевство маловато, разгуляться нам негде, легко балансировать по пешехожим бульварам не получится. Но красота требует жерт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562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Опрос показал, что лишь 34% школьников занимаются в спортивных секциях и группах. Причем среди мальчиков этот показатель составляет примерно 55%, а среди девочек - всего 19%. С возрастом, за пять лет - от 12 до 17 лет, этот показатель снижается у мальчиков с 62,5 до 47%, а у девушек с 22,5 до 16%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Кубок-ДЮКФП-по-баскетболу-юноши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дзюдо-"/>
          <p:cNvPicPr/>
          <p:nvPr/>
        </p:nvPicPr>
        <p:blipFill>
          <a:blip r:embed="rId3"/>
          <a:stretch/>
        </p:blipFill>
        <p:spPr>
          <a:xfrm>
            <a:off x="0" y="3048120"/>
            <a:ext cx="4952880" cy="3268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7339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Узнать, интересует ли спорт нынешнему поколен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акие виды спорта привлекают нашу молодёж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30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реди причин, по которым подростки не занимаются спортом, следующие: нет фитнес-центров и аквапарков по доступным ценам (15,0%), отсутствуют льготы на билеты на спортивные соревнования и мало спортивных секций по месту жительства (по 14,5%), нет условий для самостоятельных занятий (10,8%), отсутствуют пункты проката спортивного инвентаря (8,5%), мало крупных зрелищных мероприятий (7,8%), мало современных видов спорта (6,6%), а предлагаемые виды однообразны (6,1%). При этом коэффициент количества причин на одного респондента составил в среднем 1,6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Популярные виды подросткового спор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0 мест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следнее место в этой десятке отдано подростками, как ни странно,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футболу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Да, да! Футбол всегда был популярен в нашей стране и не только среди взрослых. Просто, если сравнивать подростков Британии и отечественных, то этот вид спорта значительно уступает по популярности его собрату с Туманного Альби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9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арое добро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игурное катани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рекрасный вид спорта, который вот уже 55 лет не покидает десятку ведущих спортивных дисциплин Российской федерации, становясь то первым, то последним. Причин повышения-понижения популярности фигурного катания множество: и победы великих пар Роднина-Зайцев, Букин-Бестемьянова с одной стороны; и временный застой в этой тематике в определенные годы с друг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8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аркур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один из самых молодых видов спорта не только в России, но и в мире. И посему, еще не смог набрать бешеную популярность, однако сразу вошел в топ наипопулярнейших. Постепенно этот спорт становится одним из самых излюбленных активностей подростков. Посудите сами: душа переходного возраста бунтует и не любит ограничений, а это как раз и является основной идеей парку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7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ять экстремальный вид спорта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лик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В США ролики, между прочим, удерживаются в первой тройке лидеров наравне с такими видами как байк и скейт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7106</cp:lastModifiedBy>
  <dcterms:modified xsi:type="dcterms:W3CDTF">2009-11-23T08:22:2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